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E4210C-B9B5-4587-BD26-921CA1230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 way to adapt these games for older students to pl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4D26A3-EE3D-4655-A52E-24D99313F2CC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y a few mental math problems. We are going to do some mental math. No paper and pencils. No Calculat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6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going to watch a few videos of students engaged in mental ma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701F58-BC3A-4A5A-85A4-4C0FA13652FE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 + 27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924112-3612-42D9-B0BC-23EFC5B7462E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987A61-F199-430F-A091-E78468163CBA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530BD5-4D38-4FF0-9512-EA507A18ABDA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EFAF55-19EA-4B96-A945-51F9B0B0BAA0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gallery walk. Read post-its – no com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C6D709-8AF2-4E9C-9196-CDD31F6A462E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le discu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EC756D-FFAC-4C08-B717-8D06F24EC04A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 on what we, as facilitators, did to make this a comfortable learning environ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thing we want to add to our norms chart from yester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B013AF-153E-4E59-A264-58FBC642BB9A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grades K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CA6D16-A871-4B4C-A70B-87EA3CB456A8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s of activities do you think these children were engaged in prior to this less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what you saw in the video connect to what you read about in the progre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920BB7-5AD9-4E68-90E4-1B3C9CFACB56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s of activities do you think these children were engaged in prior to this less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E75B7B-9D40-428D-B516-ED805061A1DF}" type="slidenum">
              <a:rPr b="0" lang="en-US" sz="1200" spc="-1" strike="noStrike">
                <a:solidFill>
                  <a:srgbClr val="0c002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6EB-3DA4-42DD-89FE-7BAEF475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4A4-5829-4F59-A4F2-8602CDA5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F65-B410-4AFA-8979-0CB2E1A1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749-1E40-44A5-9320-F67E33ED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4ACD-CBF8-42D5-B449-294DE68C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9B8D-6000-490C-899B-940E582B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7CFA-4C84-47AA-8490-DEE36DA1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2385-11AD-4964-A984-2CAEAEE0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5C6C-22B0-4206-A8E8-D9A8CE53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6EF0-2F0E-4835-8D9C-724CC9F3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6983-3C88-44B9-8DD7-6D8D03DA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10F5-1B03-483C-96E8-3CCA2B30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C880-EF23-4A40-A71F-13E6D7BA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4277-BCFE-42D1-BA88-11B4B5CF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81E9-ADB4-41F4-AF87-A66C7E5F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A225-6F71-4898-A570-CF8B0E5B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E511-2C25-4C02-885D-1469DDCC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5F60C-DC86-4668-97A3-BCA2A5F2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51054-A088-410B-9EF0-2F9B16B2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113C9-4316-4291-8F9A-F1DDB40A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44E32-D3D6-47D7-A62B-A88D4099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2282B-C648-439E-A706-E4912540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1D9-2306-44DC-A394-30502B0C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3E3D6-C400-48ED-9BB8-9FD0CCE9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D0933-E1FD-423A-A3AC-2C7CF3FC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FA429-9E82-4888-955D-C63AF781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0B862-3DBA-4F21-9A7D-25647485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1DCCC-50E7-4E8B-8701-D3375832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7B77E-821B-43E7-A35A-00A0F82E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CC68F-2A95-4718-A5E0-002C273C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D6DD4-644F-446C-8A16-3773F38C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07682-2056-4B2F-A382-9FEBB1FF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DF95F-9FAC-4AAC-9F86-04AA072A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295-14F0-4AD6-B3B9-23EB4FE5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15C2F-9772-4A71-B719-854D6C9D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5CE77-9BAC-4C9C-95E9-FA650FE2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A0005-B5BB-4026-975D-42A36FAE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52A58-B82B-4947-B880-22134F22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1DD5C-E8E2-4504-B27B-42691178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81EEF-8D18-44A0-9287-8A46CF20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5A88F-FA2B-442C-8187-EF73F01C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6C32F-67D0-4A1F-AEF5-79837E81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15818-1CE4-492C-AA47-048484C3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16943C-CD77-4C77-B0EB-485E1654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61C-D68E-4865-A771-9DA2AEAA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B6A6DE-C654-4D31-A552-1084821D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8F98F-EE7A-403F-80BE-07AA702F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579205-D2D3-4926-8B8A-FC54B37A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FA0F2-4E1D-45C2-B485-CF9DEB9B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9E983-658F-418C-B153-E62231BA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4E818-D6C0-4FEA-900F-FE95FDD0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50855F-AF6B-4DE9-93CA-059BE30D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927108-027F-444A-B8F0-3475B7D2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0C4362-E24B-42DD-85C8-5D7C22D6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500B45-74A5-42BA-AB56-A1A90CA4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B295-64EA-4DB2-B018-3E7A1A4B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E7280-1023-435E-90E1-78204FDD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EB0D97-2462-4C90-BB5F-0AC68E11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7F4A96-4FD6-4071-8B92-05BD913E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BB4948-5E7A-4266-B07D-EA3E1D37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FD91EA-4D8E-46EB-B6F4-509D1A79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A6B5D0-CC7B-4834-827B-D2EFD90C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94C14C-309E-4F31-BADA-80F9634F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A2ACD-CAAA-4CCA-B3A3-42A7EEC6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18B438-3012-4141-9545-A10C80BA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244AA6-2128-464E-A77C-AC0F205E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86E-EDE6-406B-976E-32E88206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172FE6-57B6-4E28-B861-65CCB64F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3A0D77-5469-4143-B588-30EF76F1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BA97B9-1A8A-4046-8D87-4E7F9B56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97C9FC-AA75-4F50-88DD-E395E31D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C85828-D54B-4CBB-999D-4B0F663C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2F2EBA-4B3B-4073-8349-257548E4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D38501-E73D-4DF3-B37C-DCC0E465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1917BF-D7CD-4A16-937C-F5828CFA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73DFC9-FC90-4713-B87A-5415F424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D42C02-285D-46F0-A9F8-C57B1142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5A2-AC50-487A-A5E6-8B532D68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562DF0-F820-4777-A252-C81A2897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6CC048-6437-4116-B3FA-57FDBC2F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9E1DCD-2A64-4DB5-89D1-636EF6BC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679C4F-EC16-4786-AB81-BA0AE78F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AA757-41E8-474F-9DF7-72102B4A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769-C8AF-401A-8795-C0F7F6A2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0aaf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0aaf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15C6-8B02-45CA-9440-625E29BFA9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0aaf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fcbf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fcbf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7f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0aaf1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7fa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0aaf1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0aaf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85DF-4F55-4944-899E-7DAE5FF328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0aaf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0aaf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77C8-A28D-4B07-8759-A662DB426B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6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0aaf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fcbf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fcbf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7fa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0aaf1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7fa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0aaf1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0aaf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7c8fe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7c8fe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AA62-0E8C-42D4-AA73-5C7DD09994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0aaf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0aaf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D901-D7B7-4C4F-BCD3-0B9881CC50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0aaf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0aaf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A848-E754-4168-B902-F893E34AD7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20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c0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0aa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0aa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20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902c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0aaf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2adb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c002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1DEF-3780-4881-883E-3209ACE6AB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36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Times New Roman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33360" y="1523520"/>
            <a:ext cx="5638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236626"/>
                </a:solidFill>
                <a:latin typeface="Century Schoolbook"/>
              </a:rPr>
              <a:t>NUMBER SENSE</a:t>
            </a:r>
            <a:br>
              <a:rPr sz="4900"/>
            </a:br>
            <a:r>
              <a:rPr b="1" lang="en-US" sz="4900" spc="-1" strike="noStrike">
                <a:solidFill>
                  <a:srgbClr val="236626"/>
                </a:solidFill>
                <a:latin typeface="Century Schoolbook"/>
              </a:rPr>
              <a:t>K-2</a:t>
            </a:r>
            <a:endParaRPr b="0" lang="en-US" sz="49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59" name="Rectangle 6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1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GAMES TO DEVELOP NUMBER SENSE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990360"/>
            <a:ext cx="746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Play each of the games. After you play each game, answer the following questions: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c002c"/>
                </a:solidFill>
                <a:latin typeface="Century Schoolbook"/>
              </a:rPr>
              <a:t>What concept(s) is the focus of each game?</a:t>
            </a: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c002c"/>
                </a:solidFill>
                <a:latin typeface="Century Schoolbook"/>
              </a:rPr>
              <a:t>What tools might students use to support to solve the problems?</a:t>
            </a: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c002c"/>
                </a:solidFill>
                <a:latin typeface="Century Schoolbook"/>
              </a:rPr>
              <a:t>Discuss the strategies students might use. Might they reason with facts they know? Use landmark strategies? Use make-a-ten? Use the 5- or 10-structure? How might you promote the use of more efficient strategies? </a:t>
            </a: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c002c"/>
                </a:solidFill>
                <a:latin typeface="Century Schoolbook"/>
              </a:rPr>
              <a:t>Is there any way to adapt these games for older students to play?</a:t>
            </a: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86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457200" y="1143000"/>
          <a:ext cx="7543800" cy="118908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inding Doubles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ake 10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apture 10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203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ack 10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ombine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Bear Tracks</a:t>
                      </a: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c002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203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GAMES TO DEVELOP NUMBER SENSE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3316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What evidence will you look for to see if students understand the underlying mathematics of the game?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What evidence will you look for to see if students are using number sense as they play the game?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90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LEARNING PROGRESSION: K-5 NUMBER AND OPERATIONS IN BASE TEN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Read the learning progression for the grade level assigned to you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Make note of how it is connected to number sense, specifically, composing and decomposing numbers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93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MENTAL MATH 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When students solve a problem in their heads, they usually use what they know about place value, number relationships, patterns, and visual images to figure it out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Problem context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Naked numbers 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96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VIDEO: 8 + 6 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219320"/>
            <a:ext cx="746748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What are examples of how the ten-frame model supports student strategies for 8 + 6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How does the ten-frame encourage students’ understanding of 10 as an important number in computation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What seems to be a core strategy throughout this number talk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8 + 6 is considered to be a basic addition fact. What role can number talks play in helping students build basic fact knowledge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99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VIDEO: 26+27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04920" y="76212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Did any of the students use the strategies we did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do the strategies demonstrate that children have built an understanding of place value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In each strategy the students start from the left and work to the right. How does this help build number sense and a sense of reasonableness for the answer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What role does the hundred chart play in helping children understand place value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are students using their understanding of number relationships in their strategies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A major focus of kindergarten is to build fluency with small numbers. How is this ideas incorporated in the students’ strategies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Is there any evidence that students were engaged in the Standards for Mathematical Practice? 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02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MENTAL MATH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Given that 48+37=85, what is the answer to 49+36?  Show why this is true using the number line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05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36626"/>
                </a:solidFill>
                <a:latin typeface="Century Schoolbook"/>
              </a:rPr>
              <a:t>VIDEO: 70-59</a:t>
            </a:r>
            <a:endParaRPr b="0" lang="en-US" sz="27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685800"/>
            <a:ext cx="792468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does the number line provide support for understanding </a:t>
            </a:r>
            <a:r>
              <a:rPr b="0" i="1" lang="en-US" sz="2400" spc="-1" strike="noStrike">
                <a:solidFill>
                  <a:srgbClr val="0c002c"/>
                </a:solidFill>
                <a:latin typeface="Century Schoolbook"/>
              </a:rPr>
              <a:t>Grant’s  Constant Difference </a:t>
            </a: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trategy? In what other ways could you model this strategy to help students understand why it works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The students share several subtraction strategies: </a:t>
            </a:r>
            <a:r>
              <a:rPr b="0" i="1" lang="en-US" sz="2400" spc="-1" strike="noStrike">
                <a:solidFill>
                  <a:srgbClr val="0c002c"/>
                </a:solidFill>
                <a:latin typeface="Century Schoolbook"/>
              </a:rPr>
              <a:t>Constant Difference, Adding Up, Removing in Chunks, and Adjusting One of the Numbers</a:t>
            </a: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. Discuss how these strategies are similar and different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When Andrew shared his strategy, students were unsure whether 1 should be added or subtracted.  Share your observations about the student and teacher roles during the class discussion.  How could you help students understand his thinking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Is there any evidence that students were engaged in the Standards for Mathematical Practice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08" name="Footer Placeholder 3"/>
          <p:cNvSpPr/>
          <p:nvPr/>
        </p:nvSpPr>
        <p:spPr>
          <a:xfrm rot="5400000">
            <a:off x="6176880" y="3195720"/>
            <a:ext cx="47246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DEVELOPING NUMBER SENSE THROUGH REAL-LIFE SITUATIONS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002c"/>
                </a:solidFill>
                <a:latin typeface="Century Schoolbook"/>
              </a:rPr>
              <a:t>How does thinking about numbers in real-life situations help develop and/or improve children’s number sense?</a:t>
            </a:r>
            <a:endParaRPr b="0" lang="en-US" sz="40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11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LEARNING FROM EACH OTHER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Read chapter 7, p. 119, in </a:t>
            </a:r>
            <a:r>
              <a:rPr b="0" i="1" lang="en-US" sz="2800" spc="-1" strike="noStrike">
                <a:solidFill>
                  <a:srgbClr val="0c002c"/>
                </a:solidFill>
                <a:latin typeface="Century Schoolbook"/>
              </a:rPr>
              <a:t>Number Sense Routines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In your small group, discuss the following questions: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does math talk support the development of number sense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do visual representations support math talk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can you help students see mistakes as learning opportunities and how does that support the development of number sense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14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6626"/>
                </a:solidFill>
                <a:latin typeface="Century Schoolbook"/>
              </a:rPr>
              <a:t>REFLECTING ON NUMBER SENSE</a:t>
            </a:r>
            <a:endParaRPr b="0" lang="en-US" sz="32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Go to mscsummercourses2013.wikispaces.com and then to the number sense page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Respond to the discussion prompt “Visual Representations”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62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FLUENCY IN PA CORE STANDARDS 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16" name="Footer Placeholder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rcRect l="29439" t="24528" r="28795" b="12500"/>
          <a:stretch/>
        </p:blipFill>
        <p:spPr>
          <a:xfrm>
            <a:off x="838080" y="749160"/>
            <a:ext cx="7086600" cy="60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6626"/>
                </a:solidFill>
                <a:latin typeface="Century Schoolbook"/>
              </a:rPr>
              <a:t>SORTING ACTIVITY</a:t>
            </a:r>
            <a:endParaRPr b="0" lang="en-US" sz="44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19" name="Footer Placeholder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420" name="TextBox 3"/>
          <p:cNvSpPr/>
          <p:nvPr/>
        </p:nvSpPr>
        <p:spPr>
          <a:xfrm>
            <a:off x="914400" y="1981080"/>
            <a:ext cx="6934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002c"/>
                </a:solidFill>
                <a:latin typeface="Arial"/>
              </a:rPr>
              <a:t>Sort the cards into two piles. Be ready to tell us how you sorted.</a:t>
            </a:r>
            <a:endParaRPr b="0" lang="en-US" sz="44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38224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36626"/>
                </a:solidFill>
                <a:latin typeface="Century Schoolbook"/>
              </a:rPr>
              <a:t>WHAT DOES FLUENCY MEAN TO YOU</a:t>
            </a:r>
            <a:endParaRPr b="0" lang="en-US" sz="4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22" name="Footer Placeholder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838080" y="182880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c002c"/>
                </a:solidFill>
                <a:latin typeface="Arial"/>
              </a:rPr>
              <a:t>On a large post-it, write down your thoughts about fluency. What is it?</a:t>
            </a:r>
            <a:endParaRPr b="0" lang="en-US" sz="48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6626"/>
                </a:solidFill>
                <a:latin typeface="Century Schoolbook"/>
              </a:rPr>
              <a:t>NUMBER SENSE AND FLUENCY</a:t>
            </a:r>
            <a:endParaRPr b="0" lang="en-US" sz="36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002c"/>
                </a:solidFill>
                <a:latin typeface="Century Schoolbook"/>
              </a:rPr>
              <a:t>How does number sense support the development of fluency?</a:t>
            </a:r>
            <a:endParaRPr b="0" lang="en-US" sz="40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26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ARTICLE DISCUSSION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002c"/>
                </a:solidFill>
                <a:latin typeface="Century Schoolbook"/>
              </a:rPr>
              <a:t>Read the article “10 Is the Magic Number.” </a:t>
            </a:r>
            <a:endParaRPr b="0" lang="en-US" sz="40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29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PLANNING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Plan task focusing on one standard and one standard for math practice involving the use of visuals to develop/extend number sense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26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c002c"/>
                </a:solidFill>
                <a:latin typeface="Century Schoolbook"/>
              </a:rPr>
              <a:t>Include a mental math activity and a game. </a:t>
            </a:r>
            <a:endParaRPr b="0" lang="en-US" sz="29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32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02c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80880" y="1066320"/>
            <a:ext cx="74678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Read chapter 5, P. 79 in </a:t>
            </a:r>
            <a:r>
              <a:rPr b="0" i="1" lang="en-US" sz="2800" spc="-1" strike="noStrike">
                <a:solidFill>
                  <a:srgbClr val="0c002c"/>
                </a:solidFill>
                <a:latin typeface="Century Schoolbook"/>
              </a:rPr>
              <a:t>Number Sense Routines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Read</a:t>
            </a:r>
            <a:r>
              <a:rPr b="0" i="1" lang="en-US" sz="2800" spc="-1" strike="noStrike">
                <a:solidFill>
                  <a:srgbClr val="0c002c"/>
                </a:solidFill>
                <a:latin typeface="Century Schoolbook"/>
              </a:rPr>
              <a:t> Why Children Have Difficulties Mastering the Basic Number Combinations and How to Help Them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Complete task, if necessary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Plan task focusing on one standard and one standard for math practice involving the use of visuals to develop/extend number sense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26760" indent="-26712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Include a mental math activity and a game. 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26760" indent="-26712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435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AGENDA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Response to wiki prompt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Sharing of Number Sense Visual Activity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Do these children have number sense? – videos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Games to Develop Number Sense 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Mental Math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Videos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Article discussion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Planning 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65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COMMUNITY OF LEARNERS 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Building a strong and supportive community of learners is essential in making number sense routines beneficial and productive for everyone.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Students share out thinking 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Work through misunderstandings in front of peers 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ave time to think for themselves 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68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SHARING: NUMBER SENSE VISUAL ACTIVITY 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With your group, share the activity you used.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How did the students respond to the activity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What challenges, if any, did you encounter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02c"/>
                </a:solidFill>
                <a:latin typeface="Century Schoolbook"/>
              </a:rPr>
              <a:t>What role did the visual play in the success or challenge of the activity?</a:t>
            </a:r>
            <a:endParaRPr b="0" lang="en-US" sz="28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71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LEARNING PROGRESSION: K-5 OPERATIONS AND ALGEBRAIC THINKING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02c"/>
                </a:solidFill>
                <a:latin typeface="Century Schoolbook"/>
              </a:rPr>
              <a:t>Read the learning progression for the grade level assigned to you.</a:t>
            </a:r>
            <a:endParaRPr b="0" lang="en-US" sz="36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002c"/>
                </a:solidFill>
                <a:latin typeface="Century Schoolbook"/>
              </a:rPr>
              <a:t>Make note of how it is connected to number sense. </a:t>
            </a:r>
            <a:endParaRPr b="0" lang="en-US" sz="32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74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28240" y="685800"/>
            <a:ext cx="800100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K1 – dot cards and ten frames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Which students are able to subitize and unitize five and which ones are not? What evidence do you have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do the visual representations support students’ in developing number sense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4203e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c002c"/>
                </a:solidFill>
                <a:latin typeface="Century Schoolbook"/>
              </a:rPr>
              <a:t>How does the ten-frame with seven dots provide opportunities for students to use five as a unit?</a:t>
            </a:r>
            <a:endParaRPr b="0" lang="en-US" sz="21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does the teacher elicit and support students’ uses of different strategies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What evidence did you find of the students engaging in the Standards for Mathematical Practice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How does what you saw in the video connect to what you read about in the progression?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DO THESE STUDENTS HAVE NUMBER SENSE?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77" name="Footer Placeholder 3"/>
          <p:cNvSpPr/>
          <p:nvPr/>
        </p:nvSpPr>
        <p:spPr>
          <a:xfrm>
            <a:off x="8077320" y="1219320"/>
            <a:ext cx="6620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c002c"/>
                </a:solidFill>
                <a:latin typeface="Arial"/>
              </a:rPr>
              <a:t>Math &amp; Science Collaborative </a:t>
            </a:r>
            <a:endParaRPr b="0" lang="en-US" sz="1100" spc="-1" strike="noStrike">
              <a:solidFill>
                <a:srgbClr val="0c002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c002c"/>
                </a:solidFill>
                <a:latin typeface="Arial"/>
              </a:rPr>
              <a:t>at the Allegheny Intermediate Unit</a:t>
            </a:r>
            <a:endParaRPr b="0" lang="en-US" sz="11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04920" y="91440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02c"/>
                </a:solidFill>
                <a:latin typeface="Century Schoolbook"/>
              </a:rPr>
              <a:t>K2 – rekenreks </a:t>
            </a:r>
            <a:endParaRPr b="0" lang="en-US" sz="24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02c"/>
                </a:solidFill>
                <a:latin typeface="Century Schoolbook"/>
              </a:rPr>
              <a:t>How does the warm-up with four and six provide the teacher with information to guide her instructional decisions?</a:t>
            </a:r>
            <a:endParaRPr b="0" lang="en-US" sz="20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02c"/>
                </a:solidFill>
                <a:latin typeface="Century Schoolbook"/>
              </a:rPr>
              <a:t>What examples of one-to-one correspondence and conservation of number surface in the lesson?</a:t>
            </a:r>
            <a:endParaRPr b="0" lang="en-US" sz="20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02c"/>
                </a:solidFill>
                <a:latin typeface="Century Schoolbook"/>
              </a:rPr>
              <a:t>Are there specific number combinations that seem more accessible to students? How does the teacher build on this foundation?</a:t>
            </a:r>
            <a:endParaRPr b="0" lang="en-US" sz="20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02c"/>
                </a:solidFill>
                <a:latin typeface="Century Schoolbook"/>
              </a:rPr>
              <a:t>How does the rekenrek support students’ in developing number sense?</a:t>
            </a:r>
            <a:endParaRPr b="0" lang="en-US" sz="20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02c"/>
                </a:solidFill>
                <a:latin typeface="Century Schoolbook"/>
              </a:rPr>
              <a:t>What evidence did you find of the students engaging in the Standards for Mathematical Practice? </a:t>
            </a:r>
            <a:endParaRPr b="0" lang="en-US" sz="20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02c"/>
                </a:solidFill>
                <a:latin typeface="Century Schoolbook"/>
              </a:rPr>
              <a:t>How does what you saw in the video connect to what you read about in the progression?</a:t>
            </a:r>
            <a:endParaRPr b="0" lang="en-US" sz="20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02c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DO THESE STUDENTS HAVE NUMBER SENSE?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80" name="Footer Placeholder 3"/>
          <p:cNvSpPr/>
          <p:nvPr/>
        </p:nvSpPr>
        <p:spPr>
          <a:xfrm>
            <a:off x="8001000" y="2286000"/>
            <a:ext cx="66204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c002c"/>
                </a:solidFill>
                <a:latin typeface="Arial"/>
              </a:rPr>
              <a:t>Math &amp; Science Collaborative </a:t>
            </a:r>
            <a:endParaRPr b="0" lang="en-US" sz="1100" spc="-1" strike="noStrike">
              <a:solidFill>
                <a:srgbClr val="0c002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c002c"/>
                </a:solidFill>
                <a:latin typeface="Arial"/>
              </a:rPr>
              <a:t>at the Allegheny Intermediate Unit</a:t>
            </a:r>
            <a:endParaRPr b="0" lang="en-US" sz="11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36626"/>
                </a:solidFill>
                <a:latin typeface="Century Schoolbook"/>
              </a:rPr>
              <a:t>IMPLICATIONS FOR TEACHING AND LEARNING</a:t>
            </a:r>
            <a:endParaRPr b="0" lang="en-US" sz="3000" spc="-1" strike="noStrike">
              <a:solidFill>
                <a:srgbClr val="236626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02c"/>
                </a:solidFill>
                <a:latin typeface="Century Schoolbook"/>
              </a:rPr>
              <a:t>What kinds of activities do you think these children were engaged in prior to these lessons?</a:t>
            </a:r>
            <a:endParaRPr b="0" lang="en-US" sz="3600" spc="-1" strike="noStrike">
              <a:solidFill>
                <a:srgbClr val="0c002c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203e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02c"/>
                </a:solidFill>
                <a:latin typeface="Century Schoolbook"/>
              </a:rPr>
              <a:t>What evidence is there that they used these tools prior to the lessons we viewed?</a:t>
            </a:r>
            <a:endParaRPr b="0" lang="en-US" sz="3600" spc="-1" strike="noStrike">
              <a:solidFill>
                <a:srgbClr val="0c002c"/>
              </a:solidFill>
              <a:latin typeface="Century Schoolbook"/>
            </a:endParaRPr>
          </a:p>
        </p:txBody>
      </p:sp>
      <p:sp>
        <p:nvSpPr>
          <p:cNvPr id="383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6626"/>
                </a:solidFill>
                <a:latin typeface="Arial"/>
              </a:rPr>
              <a:t>Math &amp; Science Collaborative at the Allegheny Intermediate Unit</a:t>
            </a:r>
            <a:endParaRPr b="0" lang="en-US" sz="12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21:17:08Z</dcterms:created>
  <dc:creator>Talking Point Graphics, Inc. (502) 456-9800</dc:creator>
  <dc:description/>
  <dc:language>en-US</dc:language>
  <cp:lastModifiedBy>Fierle, Michael</cp:lastModifiedBy>
  <cp:lastPrinted>2013-10-17T12:30:50Z</cp:lastPrinted>
  <dcterms:modified xsi:type="dcterms:W3CDTF">2014-02-18T18:26:47Z</dcterms:modified>
  <cp:revision>85</cp:revision>
  <dc:subject/>
  <dc:title>BackToSchool</dc:title>
</cp:coreProperties>
</file>